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510C-2EEC-4B37-9DBC-83D373137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A91C-8DDC-4EF6-B314-7A3801755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7973-D987-46C6-AB45-2D5EA447D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A20B-720A-44E5-8908-8DF7C11E2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D0EC61-E6AE-4D88-87CB-E503C5898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181D59-BA82-47CC-B46D-297923793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9C32F4-3E1C-40A0-B457-452AF7B85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CFFBD1-E2BB-4BA6-BB13-57DDD23F0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92050F-506E-4FF1-A263-3C4EC9161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A67248-9E87-41F8-B985-4174EE99A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7B5BBE-CB35-4175-B262-9EBD63489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909E-3CDE-4F31-989C-A94F807D4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E2C744-7E67-4CB7-AC76-75C9D0AB1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BBC0AA-ED32-4E95-94D8-27478D45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C9E938-789C-4D7B-B75E-3F92DD959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43B9B3-AB2E-4321-9440-7BD25D9B1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C43771-745C-40C1-9CC5-BE9A20F3D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E288-88BA-4B3A-8E6C-06EC20921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32AD-8125-4597-827A-438CEA05F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E9CE-758E-46C0-9DDA-2604763D8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727F-091B-4A1F-A4DE-3F390FEBE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4B7D-2DF0-4FC1-8E04-0123E65B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0129-3673-4570-90AF-BCDB35FD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3E13-47DF-4CD0-AF70-153AE679C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4F436-0E6B-4B42-8AFF-7EA224E7D95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F9FD2-F6D8-4973-88AB-850617922EC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FACE THE MUSIC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220968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bau Lari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. cu cls. I-VIII Suceagu,Baci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ypes of music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l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l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z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ical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ypes of musical instrument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uitar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ano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ol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ord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u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mpet 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33920" y="1828800"/>
            <a:ext cx="3809880" cy="32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y favourite type of music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 FAVOURITE MUSIC IS COUNTRY AND WESTE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WH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TS BENEF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ADVANTAGES AND DISADVANT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EXTRA INFORMATION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y favourite singe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favourite singer i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?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/her qualitie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/her best song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example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5T11:43:15Z</dcterms:created>
  <dc:creator>Cursant10</dc:creator>
  <dc:description/>
  <dc:language>en-US</dc:language>
  <cp:lastModifiedBy>Cursant10</cp:lastModifiedBy>
  <dcterms:modified xsi:type="dcterms:W3CDTF">2010-08-25T11:57:00Z</dcterms:modified>
  <cp:revision>2</cp:revision>
  <dc:subject/>
  <dc:title>FACE THE MUSIC</dc:title>
</cp:coreProperties>
</file>